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28800" y="2209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828800" y="3505320"/>
            <a:ext cx="58672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828800" y="3983040"/>
            <a:ext cx="58672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28800" y="2209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828800" y="3505320"/>
            <a:ext cx="28630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35520" y="3505320"/>
            <a:ext cx="28630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828800" y="3983040"/>
            <a:ext cx="28630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35520" y="3983040"/>
            <a:ext cx="28630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2209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828800" y="3505320"/>
            <a:ext cx="18889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2400" y="3505320"/>
            <a:ext cx="18889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796360" y="3505320"/>
            <a:ext cx="18889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828800" y="3983040"/>
            <a:ext cx="18889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2400" y="3983040"/>
            <a:ext cx="18889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796360" y="3983040"/>
            <a:ext cx="18889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800" y="2209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828800" y="350532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2209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28800" y="350532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800" y="2209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28800" y="3505320"/>
            <a:ext cx="28630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5520" y="3505320"/>
            <a:ext cx="28630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800" y="2209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828800" y="220932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28800" y="2209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28800" y="3505320"/>
            <a:ext cx="28630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35520" y="3505320"/>
            <a:ext cx="28630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828800" y="3983040"/>
            <a:ext cx="28630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2209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828800" y="350532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2209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28800" y="3505320"/>
            <a:ext cx="28630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35520" y="3505320"/>
            <a:ext cx="28630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35520" y="3983040"/>
            <a:ext cx="28630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8800" y="2209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828800" y="3505320"/>
            <a:ext cx="28630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5520" y="3505320"/>
            <a:ext cx="28630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828800" y="3983040"/>
            <a:ext cx="58672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8800" y="2209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828800" y="3505320"/>
            <a:ext cx="58672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828800" y="3983040"/>
            <a:ext cx="58672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28800" y="2209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828800" y="3505320"/>
            <a:ext cx="28630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35520" y="3505320"/>
            <a:ext cx="28630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828800" y="3983040"/>
            <a:ext cx="28630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35520" y="3983040"/>
            <a:ext cx="28630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8800" y="2209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828800" y="3505320"/>
            <a:ext cx="18889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12400" y="3505320"/>
            <a:ext cx="18889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96360" y="3505320"/>
            <a:ext cx="18889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828800" y="3983040"/>
            <a:ext cx="18889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12400" y="3983040"/>
            <a:ext cx="18889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796360" y="3983040"/>
            <a:ext cx="18889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28800" y="2209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828800" y="350532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28800" y="2209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828800" y="350532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8800" y="2209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828800" y="3505320"/>
            <a:ext cx="28630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35520" y="3505320"/>
            <a:ext cx="28630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28800" y="2209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2209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800" y="350532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828800" y="220932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28800" y="2209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828800" y="3505320"/>
            <a:ext cx="28630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5520" y="3505320"/>
            <a:ext cx="28630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828800" y="3983040"/>
            <a:ext cx="28630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28800" y="2209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828800" y="3505320"/>
            <a:ext cx="28630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35520" y="3505320"/>
            <a:ext cx="28630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35520" y="3983040"/>
            <a:ext cx="28630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28800" y="2209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828800" y="3505320"/>
            <a:ext cx="28630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35520" y="3505320"/>
            <a:ext cx="28630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828800" y="3983040"/>
            <a:ext cx="58672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800" y="2209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828800" y="3505320"/>
            <a:ext cx="58672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828800" y="3983040"/>
            <a:ext cx="58672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28800" y="2209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828800" y="3505320"/>
            <a:ext cx="28630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35520" y="3505320"/>
            <a:ext cx="28630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828800" y="3983040"/>
            <a:ext cx="28630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35520" y="3983040"/>
            <a:ext cx="28630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28800" y="2209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828800" y="3505320"/>
            <a:ext cx="18889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812400" y="3505320"/>
            <a:ext cx="18889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796360" y="3505320"/>
            <a:ext cx="18889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828800" y="3983040"/>
            <a:ext cx="18889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812400" y="3983040"/>
            <a:ext cx="18889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796360" y="3983040"/>
            <a:ext cx="18889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28800" y="2209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828800" y="350532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828800" y="2209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828800" y="350532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8800" y="2209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828800" y="3505320"/>
            <a:ext cx="28630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35520" y="3505320"/>
            <a:ext cx="28630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28800" y="2209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828800" y="3505320"/>
            <a:ext cx="28630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35520" y="3505320"/>
            <a:ext cx="28630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28800" y="2209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828800" y="220932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28800" y="2209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828800" y="3505320"/>
            <a:ext cx="28630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35520" y="3505320"/>
            <a:ext cx="28630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828800" y="3983040"/>
            <a:ext cx="28630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28800" y="2209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828800" y="3505320"/>
            <a:ext cx="28630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35520" y="3505320"/>
            <a:ext cx="28630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35520" y="3983040"/>
            <a:ext cx="28630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28800" y="2209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828800" y="3505320"/>
            <a:ext cx="28630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35520" y="3505320"/>
            <a:ext cx="28630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828800" y="3983040"/>
            <a:ext cx="58672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828800" y="2209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828800" y="3505320"/>
            <a:ext cx="58672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828800" y="3983040"/>
            <a:ext cx="58672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828800" y="2209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828800" y="3505320"/>
            <a:ext cx="28630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5520" y="3505320"/>
            <a:ext cx="28630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828800" y="3983040"/>
            <a:ext cx="28630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35520" y="3983040"/>
            <a:ext cx="28630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28800" y="2209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828800" y="3505320"/>
            <a:ext cx="18889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812400" y="3505320"/>
            <a:ext cx="18889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796360" y="3505320"/>
            <a:ext cx="18889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828800" y="3983040"/>
            <a:ext cx="18889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812400" y="3983040"/>
            <a:ext cx="18889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796360" y="3983040"/>
            <a:ext cx="18889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800" y="2209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828800" y="220932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28800" y="2209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828800" y="3505320"/>
            <a:ext cx="28630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35520" y="3505320"/>
            <a:ext cx="28630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828800" y="3983040"/>
            <a:ext cx="28630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28800" y="2209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828800" y="3505320"/>
            <a:ext cx="28630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35520" y="3505320"/>
            <a:ext cx="28630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35520" y="3983040"/>
            <a:ext cx="28630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2209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8800" y="3505320"/>
            <a:ext cx="28630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5520" y="3505320"/>
            <a:ext cx="28630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8800" y="3983040"/>
            <a:ext cx="58672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7925" b="15001"/>
          <a:stretch/>
        </p:blipFill>
        <p:spPr>
          <a:xfrm>
            <a:off x="8271000" y="6432480"/>
            <a:ext cx="662040" cy="3463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140440" y="6576840"/>
            <a:ext cx="2928960" cy="1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ctr" pos="11448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fld id="{F3F83F24-24D1-48D3-9DD3-32A7D49D2542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/  22 July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4809960" y="6583320"/>
            <a:ext cx="248760" cy="102960"/>
            <a:chOff x="4809960" y="6583320"/>
            <a:chExt cx="248760" cy="102960"/>
          </a:xfrm>
        </p:grpSpPr>
        <p:sp>
          <p:nvSpPr>
            <p:cNvPr id="3" name=""/>
            <p:cNvSpPr/>
            <p:nvPr/>
          </p:nvSpPr>
          <p:spPr>
            <a:xfrm>
              <a:off x="4809960" y="6583320"/>
              <a:ext cx="68400" cy="102960"/>
            </a:xfrm>
            <a:prstGeom prst="parallelogram">
              <a:avLst>
                <a:gd name="adj" fmla="val 62500"/>
              </a:avLst>
            </a:prstGeom>
            <a:solidFill>
              <a:srgbClr val="c9d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900320" y="6583320"/>
              <a:ext cx="67680" cy="102960"/>
            </a:xfrm>
            <a:prstGeom prst="parallelogram">
              <a:avLst>
                <a:gd name="adj" fmla="val 62500"/>
              </a:avLst>
            </a:prstGeom>
            <a:solidFill>
              <a:srgbClr val="c9d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991040" y="6583320"/>
              <a:ext cx="67680" cy="102960"/>
            </a:xfrm>
            <a:prstGeom prst="parallelogram">
              <a:avLst>
                <a:gd name="adj" fmla="val 62500"/>
              </a:avLst>
            </a:prstGeom>
            <a:solidFill>
              <a:srgbClr val="c9d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324000" y="1437840"/>
            <a:ext cx="843912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63680" indent="-177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-1652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979560" indent="-122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SzPct val="85000"/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257480" indent="-1638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SzPct val="85000"/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257480" indent="-1638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SzPct val="85000"/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257480" indent="-1638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SzPct val="85000"/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216000" y="180720"/>
            <a:ext cx="847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44d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344d"/>
              </a:solidFill>
              <a:latin typeface="Verdana"/>
            </a:endParaRPr>
          </a:p>
        </p:txBody>
      </p:sp>
      <p:sp>
        <p:nvSpPr>
          <p:cNvPr id="8" name=""/>
          <p:cNvSpPr/>
          <p:nvPr/>
        </p:nvSpPr>
        <p:spPr>
          <a:xfrm>
            <a:off x="181080" y="6381720"/>
            <a:ext cx="306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XI 3.0 Security for Mere Morta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63440" y="6654960"/>
            <a:ext cx="4557960" cy="0"/>
          </a:xfrm>
          <a:prstGeom prst="line">
            <a:avLst/>
          </a:prstGeom>
          <a:ln w="63360">
            <a:solidFill>
              <a:srgbClr val="c9dd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93680" y="6397560"/>
            <a:ext cx="0" cy="287280"/>
          </a:xfrm>
          <a:prstGeom prst="line">
            <a:avLst/>
          </a:prstGeom>
          <a:ln w="63360">
            <a:solidFill>
              <a:srgbClr val="c9dd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182520" y="184320"/>
            <a:ext cx="0" cy="682560"/>
          </a:xfrm>
          <a:prstGeom prst="line">
            <a:avLst/>
          </a:prstGeom>
          <a:ln w="63360">
            <a:solidFill>
              <a:srgbClr val="c9dd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039080" y="6126120"/>
            <a:ext cx="2028600" cy="646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210200" y="6472080"/>
            <a:ext cx="2928960" cy="1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ctr" pos="11448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fld id="{F6878CBB-F5B3-416D-8E0F-EF01E592881D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/  22 July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6550200"/>
            <a:ext cx="3633840" cy="0"/>
          </a:xfrm>
          <a:prstGeom prst="line">
            <a:avLst/>
          </a:prstGeom>
          <a:ln w="63360">
            <a:solidFill>
              <a:srgbClr val="c9dd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3680" y="6292800"/>
            <a:ext cx="0" cy="287280"/>
          </a:xfrm>
          <a:prstGeom prst="line">
            <a:avLst/>
          </a:prstGeom>
          <a:ln w="63360">
            <a:solidFill>
              <a:srgbClr val="c9dd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79720" y="6478560"/>
            <a:ext cx="248760" cy="102960"/>
            <a:chOff x="3879720" y="6478560"/>
            <a:chExt cx="248760" cy="102960"/>
          </a:xfrm>
        </p:grpSpPr>
        <p:sp>
          <p:nvSpPr>
            <p:cNvPr id="53" name=""/>
            <p:cNvSpPr/>
            <p:nvPr/>
          </p:nvSpPr>
          <p:spPr>
            <a:xfrm>
              <a:off x="3879720" y="6478560"/>
              <a:ext cx="68400" cy="102960"/>
            </a:xfrm>
            <a:prstGeom prst="parallelogram">
              <a:avLst>
                <a:gd name="adj" fmla="val 62500"/>
              </a:avLst>
            </a:prstGeom>
            <a:solidFill>
              <a:srgbClr val="c9d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970080" y="6478560"/>
              <a:ext cx="67680" cy="102960"/>
            </a:xfrm>
            <a:prstGeom prst="parallelogram">
              <a:avLst>
                <a:gd name="adj" fmla="val 62500"/>
              </a:avLst>
            </a:prstGeom>
            <a:solidFill>
              <a:srgbClr val="c9d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060800" y="6478560"/>
              <a:ext cx="67680" cy="102960"/>
            </a:xfrm>
            <a:prstGeom prst="parallelogram">
              <a:avLst>
                <a:gd name="adj" fmla="val 62500"/>
              </a:avLst>
            </a:prstGeom>
            <a:solidFill>
              <a:srgbClr val="c9d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13320" y="2793600"/>
            <a:ext cx="4449600" cy="17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44d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34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33520" y="14475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6eb6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8c19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47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28800" y="2209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477e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74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busobj.forumtopics.com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28800" y="2209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I 3.0 Security for Mere Mort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828800" y="350532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wayne Hoffpaui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171000"/>
            <a:ext cx="847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XI Security Concept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6eb642"/>
              </a:buClr>
              <a:buFont typeface="Arial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a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c8c197"/>
              </a:buClr>
              <a:buFont typeface="Times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cipals are given rights to ob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c8c197"/>
              </a:buClr>
              <a:buFont typeface="Times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s include “administrative” objects and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6eb642"/>
              </a:buClr>
              <a:buFont typeface="Arial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ery right has three possibil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c8c197"/>
              </a:buClr>
              <a:buFont typeface="Times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xplicitly deni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 Always takes prece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c8c197"/>
              </a:buClr>
              <a:buFont typeface="Times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xplicitly grant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 Applies when otherwise not explicitly den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c8c197"/>
              </a:buClr>
              <a:buFont typeface="Times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Unspecifi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 Not explicitly granted or denied ... considered den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6eb642"/>
              </a:buClr>
              <a:buFont typeface="Arial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fore, conflicting rights are resolved as follo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c8c197"/>
              </a:buClr>
              <a:buFont typeface="Times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specified + Explicitly denie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en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c8c197"/>
              </a:buClr>
              <a:buFont typeface="Times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specified + Explicitly grante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400" spc="-1" strike="noStrike">
                <a:solidFill>
                  <a:srgbClr val="009900"/>
                </a:solidFill>
                <a:latin typeface="Arial"/>
              </a:rPr>
              <a:t>Gra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c8c197"/>
              </a:buClr>
              <a:buFont typeface="Times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licitly granted + Explicitly denie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en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6eb642"/>
              </a:buClr>
              <a:buFont typeface="Arial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ems explicitly denied and unspecified are the same, righ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c8c197"/>
              </a:buClr>
              <a:buFont typeface="Times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uld seem so, but unspecified is MUCH more flex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35080" y="1047600"/>
            <a:ext cx="86803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flict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171000"/>
            <a:ext cx="847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XI Security Concept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6eb642"/>
              </a:buClr>
              <a:buFont typeface="Arial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are literally THOUSANDS of rights that can be assign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6eb642"/>
              </a:buClr>
              <a:buFont typeface="Arial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ess levels allow sets of rights to be managed as a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6eb642"/>
              </a:buClr>
              <a:buFont typeface="Arial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are a number of pre-defined access lev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8c197"/>
              </a:buClr>
              <a:buFont typeface="Times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 Ac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Sets all rights to Unspec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8c197"/>
              </a:buClr>
              <a:buFont typeface="Times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View documents that have previously been refre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8c197"/>
              </a:buClr>
              <a:buFont typeface="Times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chedu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Adds ability to schedule a document for later refr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8c197"/>
              </a:buClr>
              <a:buFont typeface="Times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iew on Dem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Adds ability to refresh a document interac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8c197"/>
              </a:buClr>
              <a:buFont typeface="Times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ull Contr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Adds ability to create, edit, and publish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8c197"/>
              </a:buClr>
              <a:buFont typeface="Times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dvanc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477e"/>
              </a:buClr>
              <a:buFont typeface="Arial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s any combination of individual rights to be 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477e"/>
              </a:buClr>
              <a:buFont typeface="Arial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s in “one-off” settings that cannot be re-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35080" y="1047600"/>
            <a:ext cx="86803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ccess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171000"/>
            <a:ext cx="847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XI Security Concept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6eb642"/>
              </a:buClr>
              <a:buFont typeface="Arial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I release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8c197"/>
              </a:buClr>
              <a:buFont typeface="Times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deviation from pre-defined access level results in advanced (non reus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8c197"/>
              </a:buClr>
              <a:buFont typeface="Times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defined access levels do not apply to applications ... advanced (non reusable) by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6eb642"/>
              </a:buClr>
              <a:buFont typeface="Arial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I 3.0 ...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MAJOR ENHANCEMENT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8c197"/>
              </a:buClr>
              <a:buFont typeface="Times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named, reusable custom access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8c197"/>
              </a:buClr>
              <a:buFont typeface="Times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access levels can be applied to the same principal /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8c197"/>
              </a:buClr>
              <a:buFont typeface="Times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s can differ based on content type ... WebI document different than DeskI document, for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8c197"/>
              </a:buClr>
              <a:buFont typeface="Times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rights can apply to objects, sub-objects, or both (i.e., can “cascade” or n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35080" y="1047600"/>
            <a:ext cx="86803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ustom Access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90920" y="5334120"/>
            <a:ext cx="457200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Verdana"/>
                <a:ea typeface="MS PGothic"/>
              </a:rPr>
              <a:t>Custom access levels become the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Verdana"/>
                <a:ea typeface="MS PGothic"/>
              </a:rPr>
              <a:t>building blocks</a:t>
            </a:r>
            <a:r>
              <a:rPr b="0" i="1" lang="en-US" sz="2000" spc="-1" strike="noStrike">
                <a:solidFill>
                  <a:srgbClr val="ff0000"/>
                </a:solidFill>
                <a:latin typeface="Verdana"/>
                <a:ea typeface="MS PGothic"/>
              </a:rPr>
              <a:t> for a very robust, yet easily manageable security model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600" y="171000"/>
            <a:ext cx="847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uilding Blocks Mod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6eb642"/>
              </a:buClr>
              <a:buFont typeface="Arial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group structure on CONTENT only (like department or reg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49"/>
              </a:spcBef>
              <a:buClr>
                <a:srgbClr val="c8c197"/>
              </a:buClr>
              <a:buFont typeface="Times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eparate APPLICATION (technical) groups ... common in XI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49"/>
              </a:spcBef>
              <a:buClr>
                <a:srgbClr val="c8c197"/>
              </a:buClr>
              <a:buFont typeface="Times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oids complexity of multiple / acyclic group member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49"/>
              </a:spcBef>
              <a:buClr>
                <a:srgbClr val="c8c197"/>
              </a:buClr>
              <a:buFont typeface="Times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Use multiple custom access lev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6eb642"/>
              </a:buClr>
              <a:buFont typeface="Arial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VER break inheri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49"/>
              </a:spcBef>
              <a:buClr>
                <a:srgbClr val="c8c197"/>
              </a:buClr>
              <a:buFont typeface="Times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ifies debugging / mainte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49"/>
              </a:spcBef>
              <a:buClr>
                <a:srgbClr val="c8c197"/>
              </a:buClr>
              <a:buFont typeface="Times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Use cascading / non-cascading r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6eb642"/>
              </a:buClr>
              <a:buFont typeface="Arial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VER explicitly deny a right (leave as not specifi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49"/>
              </a:spcBef>
              <a:buClr>
                <a:srgbClr val="c8c197"/>
              </a:buClr>
              <a:buFont typeface="Times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ifies debugging / mainte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49"/>
              </a:spcBef>
              <a:buClr>
                <a:srgbClr val="c8c197"/>
              </a:buClr>
              <a:buFont typeface="Times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Use cascading / non-cascading r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6eb642"/>
              </a:buClr>
              <a:buFont typeface="Arial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VER apply granular (aka, advanced) r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49"/>
              </a:spcBef>
              <a:buClr>
                <a:srgbClr val="c8c197"/>
              </a:buClr>
              <a:buFont typeface="Times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ifies debugging / mainte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49"/>
              </a:spcBef>
              <a:buClr>
                <a:srgbClr val="c8c197"/>
              </a:buClr>
              <a:buFont typeface="Times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Only use custom access lev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6eb642"/>
              </a:buClr>
              <a:buFont typeface="Arial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URAGE use of pre-defined access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49"/>
              </a:spcBef>
              <a:buClr>
                <a:srgbClr val="c8c197"/>
              </a:buClr>
              <a:buFont typeface="Times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end too many concepts together, inadvertently grant more than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49"/>
              </a:spcBef>
              <a:buClr>
                <a:srgbClr val="c8c197"/>
              </a:buClr>
              <a:buFont typeface="Times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Use custom access levels; separate application rights from content r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5080" y="1047600"/>
            <a:ext cx="86803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uiding principles (aka, things to avo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171000"/>
            <a:ext cx="847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uilding Blocks Mod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"/>
          <p:cNvSpPr/>
          <p:nvPr/>
        </p:nvSpPr>
        <p:spPr>
          <a:xfrm>
            <a:off x="235080" y="1047600"/>
            <a:ext cx="86803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reate building blocks (aka, rights within access lev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6eb6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ake your time here!  Understanding each right and a few simple principles will enable this method to work for you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6eb6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all rights apply to all ob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c8c19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example, schedule applies to a document object, not the WebI application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c8c19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For a given access level only include rights that relate toge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6eb6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rights within the list of rights have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c8c19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l rights can be over-ridden for specific object types (like can generally schedule, but not for Crystal Report objec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c8c19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s labeled “... that the user owns” are more restrictive than same right without that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c8c19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s labeled “Securely modify rights” are more restrictive than those labeled “Modify right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c8c19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For these “pairs” of rights, use one or the other, but not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5715000"/>
            <a:ext cx="2971800" cy="1143000"/>
          </a:xfrm>
          <a:prstGeom prst="irregularSeal1">
            <a:avLst/>
          </a:prstGeom>
          <a:noFill/>
          <a:ln w="19080">
            <a:solidFill>
              <a:srgbClr val="0047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Verdana"/>
                <a:ea typeface="MS PGothic"/>
              </a:rPr>
              <a:t>Demo tim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171000"/>
            <a:ext cx="847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uilding Blocks Mod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"/>
          <p:cNvSpPr/>
          <p:nvPr/>
        </p:nvSpPr>
        <p:spPr>
          <a:xfrm>
            <a:off x="235080" y="1047600"/>
            <a:ext cx="86803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reate building blocks (Example 1:  Appli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6eb6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enario: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fresh on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ser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d ho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sers, an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velop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eb6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application rights (create, refresh, drill) are independent of content rights (view, schedule, etc.) these access levels will narrowly focus on application rights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eb6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pp rights: Refr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c8c19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kI:  Log on, retrieve, refresh, pr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c8c19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I:  Log 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eb6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pp rights: Ad h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c8c19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kI:  Broad, but not unlimited r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c8c19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I:  Broad, but not unlimited r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eb6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pp rights: 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c8c19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kI:  All rights gra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c8c19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I:  All rights gra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c8c19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igner:  All rights gra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5715000"/>
            <a:ext cx="2971800" cy="1143000"/>
          </a:xfrm>
          <a:prstGeom prst="irregularSeal1">
            <a:avLst/>
          </a:prstGeom>
          <a:noFill/>
          <a:ln w="19080">
            <a:solidFill>
              <a:srgbClr val="0047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Verdana"/>
                <a:ea typeface="MS PGothic"/>
              </a:rPr>
              <a:t>Demo tim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600" y="171000"/>
            <a:ext cx="847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uilding Blocks Mod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"/>
          <p:cNvSpPr/>
          <p:nvPr/>
        </p:nvSpPr>
        <p:spPr>
          <a:xfrm>
            <a:off x="235080" y="1047600"/>
            <a:ext cx="86803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reate building blocks (Example 2:  Cont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6eb6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enario:  Two folders ...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Human Resourc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Fin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6eb6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ontent rights: Stand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c8c19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l:  Schedule, but control only your own in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c8c19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kI reports:  Download to full client, refresh, ex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c8c19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I reports:  Download to rich client, refresh, ex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c8c19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ion:  Data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c8c19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e:  Data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6eb6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ontent rights: Develo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c8c19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rights to a folder, but cannot delete / edit the folder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6eb6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ontent rights: View folder on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c8c19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right, view on folder, but does not apply to sub-o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6eb6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ontent rights: Create against univer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c8c19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right, create against unive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00400" y="5715000"/>
            <a:ext cx="2971800" cy="1143000"/>
          </a:xfrm>
          <a:prstGeom prst="irregularSeal1">
            <a:avLst/>
          </a:prstGeom>
          <a:noFill/>
          <a:ln w="19080">
            <a:solidFill>
              <a:srgbClr val="0047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Verdana"/>
                <a:ea typeface="MS PGothic"/>
              </a:rPr>
              <a:t>Demo tim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35080" y="1047600"/>
            <a:ext cx="86803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reate security matrix (aka, putting it togeth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533520" y="1447920"/>
          <a:ext cx="7772400" cy="1795320"/>
        </p:xfrm>
        <a:graphic>
          <a:graphicData uri="http://schemas.openxmlformats.org/drawingml/2006/table">
            <a:tbl>
              <a:tblPr/>
              <a:tblGrid>
                <a:gridCol w="2547720"/>
                <a:gridCol w="2676600"/>
                <a:gridCol w="254808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ncipal (wh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eb64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ject (wher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eb64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ess level (wha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eb642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:  Every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folder:  / (roo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nt rights: View folder on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:  Every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477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verse folder:  / (roo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477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nt rights: View folder on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477e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380880" y="4114800"/>
            <a:ext cx="830592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  <a:ea typeface="MS PGothic"/>
              </a:rPr>
              <a:t>Everyone group should be used sparingly, but appropriate for root folder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171000"/>
            <a:ext cx="847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uilding Blocks Mod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35080" y="1047600"/>
            <a:ext cx="86803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reate security matrix (aka, putting it togeth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533520" y="1447920"/>
          <a:ext cx="7772400" cy="3868560"/>
        </p:xfrm>
        <a:graphic>
          <a:graphicData uri="http://schemas.openxmlformats.org/drawingml/2006/table">
            <a:tbl>
              <a:tblPr/>
              <a:tblGrid>
                <a:gridCol w="2547720"/>
                <a:gridCol w="2676600"/>
                <a:gridCol w="254808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ncipal (wh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eb64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ject (wher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eb64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ess level (wha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eb64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:  Human resource sta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:  Desktop Intellig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 rights: Refre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:  Human resource sta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477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:  Web Intellig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477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 rights: Refre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477e">
                        <a:alpha val="5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:  Human resource sta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ion:  Human resource datab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nt rights: Stand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:  Human resource sta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477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verse folder:  /Human resource univer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477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nt rights: Stand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477e">
                        <a:alpha val="5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:  Human resource sta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folder:  /Human resource docu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nt rights: Stand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2" name=""/>
          <p:cNvSpPr/>
          <p:nvPr/>
        </p:nvSpPr>
        <p:spPr>
          <a:xfrm>
            <a:off x="2438280" y="5410080"/>
            <a:ext cx="51055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MS PGothic"/>
              </a:rPr>
              <a:t>Report consumers given standard set of connection, universe, and document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171000"/>
            <a:ext cx="847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uilding Blocks Mod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35080" y="1047600"/>
            <a:ext cx="86803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reate security matrix (aka, putting it togeth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533520" y="1447920"/>
          <a:ext cx="7772400" cy="3841560"/>
        </p:xfrm>
        <a:graphic>
          <a:graphicData uri="http://schemas.openxmlformats.org/drawingml/2006/table">
            <a:tbl>
              <a:tblPr/>
              <a:tblGrid>
                <a:gridCol w="2547720"/>
                <a:gridCol w="2676600"/>
                <a:gridCol w="25480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ncipal (wh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eb64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ject (whe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eb64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ess level (wha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eb642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:  Human resource analy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:  Desktop Intellig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 rights: </a:t>
                      </a:r>
                      <a:r>
                        <a:rPr b="0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Ad ho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:  Human resource analy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477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:  Web Intellig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477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 rights: </a:t>
                      </a:r>
                      <a:r>
                        <a:rPr b="0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Ad ho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477e">
                        <a:alpha val="50000"/>
                      </a:srgbClr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:  Human resource analy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ion:  Human resource datab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nt rights: Stand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:  Human resource analy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477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verse folder:  /Human resource univer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477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nt rights: Stand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477e">
                        <a:alpha val="50000"/>
                      </a:srgbClr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:  Human resource analy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verse folder:  /Human resource univer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Content rights: Create against univer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:  Human resource analy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477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folder:  /Human resource docu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477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nt rights: Stand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477e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2438280" y="5410080"/>
            <a:ext cx="51818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MS PGothic"/>
              </a:rPr>
              <a:t>Ad hoc users have expanded application rights and ability to create against unive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171000"/>
            <a:ext cx="847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uilding Blocks Mod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352680" y="1676520"/>
            <a:ext cx="1925640" cy="44956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171000"/>
            <a:ext cx="847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XI 3.0 Security for Mere Morta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"/>
          <p:cNvSpPr/>
          <p:nvPr/>
        </p:nvSpPr>
        <p:spPr>
          <a:xfrm rot="20390400">
            <a:off x="543960" y="2666880"/>
            <a:ext cx="2098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7e"/>
                </a:solidFill>
                <a:latin typeface="Verdana"/>
                <a:ea typeface="MS PGothic"/>
              </a:rPr>
              <a:t>Access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9843800">
            <a:off x="920160" y="3352320"/>
            <a:ext cx="2322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MS PGothic"/>
              </a:rPr>
              <a:t>Groups /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804800">
            <a:off x="5515200" y="4190760"/>
            <a:ext cx="25855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7e"/>
                </a:solidFill>
                <a:latin typeface="Verdana"/>
                <a:ea typeface="MS PGothic"/>
              </a:rPr>
              <a:t>Folders /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810600">
            <a:off x="5258880" y="1904760"/>
            <a:ext cx="30794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7e"/>
                </a:solidFill>
                <a:latin typeface="Verdana"/>
                <a:ea typeface="MS PGothic"/>
              </a:rPr>
              <a:t>Multiple Inher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21281400">
            <a:off x="5951520" y="2895120"/>
            <a:ext cx="2700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MS PGothic"/>
              </a:rPr>
              <a:t>Conflicting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728200">
            <a:off x="4893840" y="5562360"/>
            <a:ext cx="27381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MS PGothic"/>
              </a:rPr>
              <a:t>Break Inher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9843800">
            <a:off x="2234160" y="4266720"/>
            <a:ext cx="999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77e"/>
                </a:solidFill>
                <a:latin typeface="Verdana"/>
                <a:ea typeface="MS PGothic"/>
              </a:rPr>
              <a:t>Gr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260600">
            <a:off x="1627200" y="1828440"/>
            <a:ext cx="9198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MS PGothic"/>
              </a:rPr>
              <a:t>D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951800">
            <a:off x="754200" y="4998600"/>
            <a:ext cx="20811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MS PGothic"/>
              </a:rPr>
              <a:t>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5080" y="1047600"/>
            <a:ext cx="8451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eel like XI security requires a superher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20464200">
            <a:off x="4674960" y="4800600"/>
            <a:ext cx="19789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MS PGothic"/>
              </a:rPr>
              <a:t>... user ow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35080" y="1047600"/>
            <a:ext cx="86803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reate security matrix (aka, putting it togeth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533520" y="1447920"/>
          <a:ext cx="7772400" cy="3841560"/>
        </p:xfrm>
        <a:graphic>
          <a:graphicData uri="http://schemas.openxmlformats.org/drawingml/2006/table">
            <a:tbl>
              <a:tblPr/>
              <a:tblGrid>
                <a:gridCol w="2547720"/>
                <a:gridCol w="2676600"/>
                <a:gridCol w="25480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ncipal (wh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eb64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ject (whe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eb64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ess level (wha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eb642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:  Human resource develop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:  Desktop Intellig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 rights: </a:t>
                      </a:r>
                      <a:r>
                        <a:rPr b="0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Develop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:  Human resource develop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477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:  Web Intellig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477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 rights: </a:t>
                      </a:r>
                      <a:r>
                        <a:rPr b="0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Develop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477e">
                        <a:alpha val="50000"/>
                      </a:srgbClr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:  Human resource develop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:  </a:t>
                      </a:r>
                      <a:r>
                        <a:rPr b="0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Desig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 rights: </a:t>
                      </a:r>
                      <a:r>
                        <a:rPr b="0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Develop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:  Human resource develop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477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ion:  Human resource datab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477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nt rights: </a:t>
                      </a:r>
                      <a:r>
                        <a:rPr b="0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Develop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477e">
                        <a:alpha val="50000"/>
                      </a:srgbClr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:  Human resource develop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verse folder:  /Human resource univer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nt rights: </a:t>
                      </a:r>
                      <a:r>
                        <a:rPr b="0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Develop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:  Human resource develop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477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folder:  /Human resource docu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477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nt rights: </a:t>
                      </a:r>
                      <a:r>
                        <a:rPr b="0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Develop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477e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50" name=""/>
          <p:cNvSpPr/>
          <p:nvPr/>
        </p:nvSpPr>
        <p:spPr>
          <a:xfrm>
            <a:off x="2514600" y="5486400"/>
            <a:ext cx="48769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MS PGothic"/>
              </a:rPr>
              <a:t>Developers given rights to Designer and expanded rights to publish to repos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171000"/>
            <a:ext cx="847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uilding Blocks Mod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171000"/>
            <a:ext cx="847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6eb642"/>
              </a:buClr>
              <a:buFont typeface="Arial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assistant administrators with custom access levels f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8c197"/>
              </a:buClr>
              <a:buFont typeface="Times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word 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8c197"/>
              </a:buClr>
              <a:buFont typeface="Times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 users (add / assign to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8c197"/>
              </a:buClr>
              <a:buFont typeface="Times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endar 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6eb642"/>
              </a:buClr>
              <a:buFont typeface="Arial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er control over documents with custom access levels f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8c197"/>
              </a:buClr>
              <a:buFont typeface="Times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tored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8c197"/>
              </a:buClr>
              <a:buFont typeface="Times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ing (separate from stand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35080" y="1047600"/>
            <a:ext cx="86803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ther useful building blocks (examp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171000"/>
            <a:ext cx="847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6eb642"/>
              </a:buClr>
              <a:buFont typeface="Arial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tools in XI 3.0 CMC to manage / debug security mod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6eb642"/>
              </a:buClr>
              <a:buFont typeface="Arial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ity qu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8c197"/>
              </a:buClr>
              <a:buFont typeface="Times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all net rights between a principal and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8c197"/>
              </a:buClr>
              <a:buFont typeface="Times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whether source is from an access level or advanced (granular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8c197"/>
              </a:buClr>
              <a:buFont typeface="Times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whether right is inherited, and EXACT source of net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8c197"/>
              </a:buClr>
              <a:buFont typeface="Times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 can be exported to text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6eb642"/>
              </a:buClr>
              <a:buFont typeface="Arial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ship qu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8c197"/>
              </a:buClr>
              <a:buFont typeface="Times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for any given object, what other objects are 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8c197"/>
              </a:buClr>
              <a:buFont typeface="Times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ful for assessing impact of change to / delete of an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35080" y="1047600"/>
            <a:ext cx="86803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entral Management Console (CM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171000"/>
            <a:ext cx="847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6eb642"/>
              </a:buClr>
              <a:buFont typeface="Arial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cel tool (supplemental materi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8c197"/>
              </a:buClr>
              <a:buFont typeface="Times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an Excel tool that lists all rights and the objects to which they a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8c197"/>
              </a:buClr>
              <a:buFont typeface="Times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used to “draft” custom access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8c197"/>
              </a:buClr>
              <a:buFont typeface="Times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s for security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8c197"/>
              </a:buClr>
              <a:buFont typeface="Times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be available for down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6eb642"/>
              </a:buClr>
              <a:buFont typeface="Arial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8c197"/>
              </a:buClr>
              <a:buFont typeface="Times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Objects Board (BOB ... </a:t>
            </a:r>
            <a:r>
              <a:rPr b="0" lang="en-US" sz="1800" spc="-1" strike="noStrike" u="sng">
                <a:solidFill>
                  <a:srgbClr val="00477e"/>
                </a:solidFill>
                <a:uFillTx/>
                <a:latin typeface="Arial"/>
                <a:hlinkClick r:id="rId1"/>
              </a:rPr>
              <a:t>http://busobj.forumtopics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8c197"/>
              </a:buClr>
              <a:buFont typeface="Times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t forum providing support for Business Objects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35080" y="1047600"/>
            <a:ext cx="86803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th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3581280" y="4800600"/>
            <a:ext cx="1524240" cy="965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8600" y="171000"/>
            <a:ext cx="847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cap / Q&amp;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5000"/>
              </a:lnSpc>
              <a:spcBef>
                <a:spcPts val="550"/>
              </a:spcBef>
              <a:buClr>
                <a:srgbClr val="6eb642"/>
              </a:buClr>
              <a:buFont typeface="Arial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I security concep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spcBef>
                <a:spcPts val="451"/>
              </a:spcBef>
              <a:buClr>
                <a:srgbClr val="c8c197"/>
              </a:buClr>
              <a:buFont typeface="Times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incip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who) are give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igh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what) t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bjec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whe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spcBef>
                <a:spcPts val="451"/>
              </a:spcBef>
              <a:buClr>
                <a:srgbClr val="c8c197"/>
              </a:buClr>
              <a:buFont typeface="Times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heritance / conflicting right resolution is powerful, but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spcBef>
                <a:spcPts val="451"/>
              </a:spcBef>
              <a:buClr>
                <a:srgbClr val="c8c197"/>
              </a:buClr>
              <a:buFont typeface="Times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levels (sets of rights managed as a group) can be used as “building blocks” to minimize 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5000"/>
              </a:lnSpc>
              <a:spcBef>
                <a:spcPts val="550"/>
              </a:spcBef>
              <a:buClr>
                <a:srgbClr val="6eb642"/>
              </a:buClr>
              <a:buFont typeface="Arial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ilding blocks mod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spcBef>
                <a:spcPts val="451"/>
              </a:spcBef>
              <a:buClr>
                <a:srgbClr val="c8c197"/>
              </a:buClr>
              <a:buFont typeface="Times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 multiple group structures, breaking inheritance, explicitly denying rights, and granular (advanced) r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spcBef>
                <a:spcPts val="451"/>
              </a:spcBef>
              <a:buClr>
                <a:srgbClr val="c8c197"/>
              </a:buClr>
              <a:buFont typeface="Times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 the time to understand rights and their inte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spcBef>
                <a:spcPts val="451"/>
              </a:spcBef>
              <a:buClr>
                <a:srgbClr val="c8c197"/>
              </a:buClr>
              <a:buFont typeface="Times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custom access levels containing only logically related r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spcBef>
                <a:spcPts val="451"/>
              </a:spcBef>
              <a:buClr>
                <a:srgbClr val="c8c197"/>
              </a:buClr>
              <a:buFont typeface="Times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security matrix by applying object rights to principals using custom access levels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5000"/>
              </a:lnSpc>
              <a:spcBef>
                <a:spcPts val="550"/>
              </a:spcBef>
              <a:buClr>
                <a:srgbClr val="6eb642"/>
              </a:buClr>
              <a:buFont typeface="Arial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eriment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spcBef>
                <a:spcPts val="451"/>
              </a:spcBef>
              <a:buClr>
                <a:srgbClr val="c8c197"/>
              </a:buClr>
              <a:buFont typeface="Times"/>
              <a:buChar char="•"/>
              <a:tabLst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ay be that this model is all you will need, but once mastered then venture into more advanced u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35080" y="1047600"/>
            <a:ext cx="86803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c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8600" y="171000"/>
            <a:ext cx="847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cap / Q&amp;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"/>
          <p:cNvSpPr/>
          <p:nvPr/>
        </p:nvSpPr>
        <p:spPr>
          <a:xfrm>
            <a:off x="235080" y="1047600"/>
            <a:ext cx="86803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&amp;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6572160" cy="4044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609480" y="3962520"/>
            <a:ext cx="2084400" cy="11412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533520" y="2514600"/>
            <a:ext cx="426708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S PGothic"/>
              </a:rPr>
              <a:t>Contact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S PGothic"/>
              </a:rPr>
              <a:t>Dwayne Hoffpau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S PGothic"/>
              </a:rPr>
              <a:t>dwayne.hoffpauir@eds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171000"/>
            <a:ext cx="847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XI 3.0 Security for Mere Morta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"/>
          <p:cNvSpPr/>
          <p:nvPr/>
        </p:nvSpPr>
        <p:spPr>
          <a:xfrm>
            <a:off x="235080" y="1047600"/>
            <a:ext cx="845172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dopt a “building blocks” approach that mere mortals can implement and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5943600" cy="4003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171000"/>
            <a:ext cx="847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XI 3.0 Security for Mere Morta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550"/>
              </a:spcBef>
              <a:buClr>
                <a:srgbClr val="6eb6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are v5/v6 to X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5000"/>
              </a:lnSpc>
              <a:spcBef>
                <a:spcPts val="550"/>
              </a:spcBef>
              <a:buClr>
                <a:srgbClr val="6eb6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I Security Concep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5000"/>
              </a:lnSpc>
              <a:spcBef>
                <a:spcPts val="400"/>
              </a:spcBef>
              <a:buClr>
                <a:srgbClr val="c8c19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ic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5000"/>
              </a:lnSpc>
              <a:spcBef>
                <a:spcPts val="400"/>
              </a:spcBef>
              <a:buClr>
                <a:srgbClr val="c8c19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inheri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5000"/>
              </a:lnSpc>
              <a:spcBef>
                <a:spcPts val="400"/>
              </a:spcBef>
              <a:buClr>
                <a:srgbClr val="c8c19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licting r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5000"/>
              </a:lnSpc>
              <a:spcBef>
                <a:spcPts val="400"/>
              </a:spcBef>
              <a:buClr>
                <a:srgbClr val="c8c19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5000"/>
              </a:lnSpc>
              <a:spcBef>
                <a:spcPts val="550"/>
              </a:spcBef>
              <a:buClr>
                <a:srgbClr val="6eb6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ilding Blocks Mod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5000"/>
              </a:lnSpc>
              <a:spcBef>
                <a:spcPts val="400"/>
              </a:spcBef>
              <a:buClr>
                <a:srgbClr val="c8c19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uiding princi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5000"/>
              </a:lnSpc>
              <a:spcBef>
                <a:spcPts val="400"/>
              </a:spcBef>
              <a:buClr>
                <a:srgbClr val="c8c19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building b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5000"/>
              </a:lnSpc>
              <a:spcBef>
                <a:spcPts val="400"/>
              </a:spcBef>
              <a:buClr>
                <a:srgbClr val="c8c19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security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5000"/>
              </a:lnSpc>
              <a:spcBef>
                <a:spcPts val="550"/>
              </a:spcBef>
              <a:buClr>
                <a:srgbClr val="6eb6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5000"/>
              </a:lnSpc>
              <a:spcBef>
                <a:spcPts val="400"/>
              </a:spcBef>
              <a:buClr>
                <a:srgbClr val="c8c19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useful building b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5000"/>
              </a:lnSpc>
              <a:spcBef>
                <a:spcPts val="400"/>
              </a:spcBef>
              <a:buClr>
                <a:srgbClr val="c8c19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ntral Management Console (CM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5000"/>
              </a:lnSpc>
              <a:spcBef>
                <a:spcPts val="400"/>
              </a:spcBef>
              <a:buClr>
                <a:srgbClr val="c8c19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5000"/>
              </a:lnSpc>
              <a:spcBef>
                <a:spcPts val="550"/>
              </a:spcBef>
              <a:buClr>
                <a:srgbClr val="6eb6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ap / Q&amp;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5080" y="1047600"/>
            <a:ext cx="8451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324000" y="1438200"/>
          <a:ext cx="7905600" cy="3808440"/>
        </p:xfrm>
        <a:graphic>
          <a:graphicData uri="http://schemas.openxmlformats.org/drawingml/2006/table">
            <a:tbl>
              <a:tblPr/>
              <a:tblGrid>
                <a:gridCol w="1962000"/>
                <a:gridCol w="3124080"/>
                <a:gridCol w="28195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eb64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5 / v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eb64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eb642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damental  stru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 structure for users, applications, rights, documents, univer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wo structures (groups and folders) with rights applied at 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5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heri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477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:  from the only stru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477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al:  from groups (one or more) and fol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477e">
                        <a:alpha val="50000"/>
                      </a:srgbClr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lict re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nsistent: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 – least restric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hts – most restrictiv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/Unv – least restric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ways most restric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4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ularity of righ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477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 rights - gran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/Unv - either on or o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477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ular rights on all objects (app/doc/un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477e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2362320" y="5486400"/>
            <a:ext cx="556236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MS PGothic"/>
              </a:rPr>
              <a:t>XI model is much more flexible, but potentially much more complex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171000"/>
            <a:ext cx="847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pare v5/v6 to XI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wipe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35080" y="1047600"/>
            <a:ext cx="81468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1880" indent="-4618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asic Structure –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Principals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(who) are give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Rights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(what) 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Objects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(whe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1752480"/>
            <a:ext cx="4343400" cy="4343400"/>
          </a:xfrm>
          <a:prstGeom prst="ellipse">
            <a:avLst/>
          </a:prstGeom>
          <a:solidFill>
            <a:srgbClr val="808080">
              <a:alpha val="6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86200" y="1752480"/>
            <a:ext cx="4343400" cy="4343400"/>
          </a:xfrm>
          <a:prstGeom prst="ellipse">
            <a:avLst/>
          </a:prstGeom>
          <a:solidFill>
            <a:srgbClr val="6eb642">
              <a:alpha val="6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581280"/>
            <a:ext cx="289548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Principal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(Users/Grou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05520" y="3581280"/>
            <a:ext cx="32004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Objec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(Apps, folders 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124080" y="3733920"/>
            <a:ext cx="2895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171000"/>
            <a:ext cx="847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XI Security Concept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171000"/>
            <a:ext cx="847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XI Security Concept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6eb6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vidual users are assigned to one or more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8c19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ow conflicting rights are handled will be covered l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6eb6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ent groups can contain child sub-groups, and child sub-groups can belong to more than one parent gro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8c19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his “acyclic graph” model (multiple parents) is powerful, but compl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6eb6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 default, child sub-groups inherit rights from parent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8c19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t is also possible to “break inheritance,” but should be avoi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6eb6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 default, users inherit rights from the group(s) to which they belo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8c19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etting user-specific rights complicates maintenance and is another version of “breaking inheritance” that should be avoi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35080" y="1047600"/>
            <a:ext cx="86803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incipals (Users/Grou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171000"/>
            <a:ext cx="847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XI Security Concept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"/>
          <p:cNvSpPr/>
          <p:nvPr/>
        </p:nvSpPr>
        <p:spPr>
          <a:xfrm>
            <a:off x="235080" y="1047600"/>
            <a:ext cx="86803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bjects (applications, folders, documents, universes, 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eb6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s include documents and universes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 can be Office documents, web links, program objects as 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eb6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s are stored in folders, but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NLY 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eb6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ent folders can have child sub-folders, but child sub-folders can hav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NLY 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eb6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default, child sub-folders inherit rights from parent fo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8c19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It is also possible to “break inheritance,” but should be avoi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eb6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default, objects inherit rights from their fo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8c19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etting object-specific rights complicates maintenance and is another version of “breaking inheritance” that should be avoi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eb6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key concept is that virtually EVERYTHING in XI is an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8c19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Including “administrative” objects (users, groups, applications, servers, categories, profiles, inboxes, calendars, event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171000"/>
            <a:ext cx="847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XI Security Concept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6eb6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icit in previous discussions, a given user can inherit rights from multiple pl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6eb6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8c19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can be in multiple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8c19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groups inherit rights from parent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8c19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groups can have multiple parent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6eb6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ld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8c19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folder inherits rights from parent 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6eb6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olving conflicts from multiple inheritance is discussed on the next pa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5080" y="1047600"/>
            <a:ext cx="86803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ultiple Inher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19:54:00Z</dcterms:created>
  <dc:creator>Dwayne Hoffpauir</dc:creator>
  <dc:description/>
  <dc:language>en-US</dc:language>
  <cp:lastModifiedBy>Dwayne Hoffpauir</cp:lastModifiedBy>
  <dcterms:modified xsi:type="dcterms:W3CDTF">2008-10-21T20:39:31Z</dcterms:modified>
  <cp:revision>62</cp:revision>
  <dc:subject/>
  <dc:title>XI 3.0 Security for Mere Morta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